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EA0-2C05-446B-8EAA-6F6AFA43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B64-4642-4325-9748-273623B2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2D5-CE35-496C-A2A0-655E5D77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871-9E97-4836-AFE4-2D7B7FC9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DF82-9E2F-4804-B48F-B7F9B2CE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AD45-DCC6-4151-B865-C157027A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1D8A-FEE9-4DE5-B891-562D87FD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5882-DEF5-482A-8670-15C6F256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FC6E-CED2-475E-9579-7F0F7A75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CE1E-C44B-4248-A73C-4202F9A1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F59D-B165-4124-83F5-11D899E7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D8F-B6A5-41E6-B904-94A2D3FD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0416-2EF0-4E84-8CF6-9078B9AE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A28D-FA53-43AE-8D71-F744446A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1B36-B325-4C63-8378-222DC6FA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1D84-6FFF-4400-8378-A4109864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2885-845C-43B6-A84F-1549DEF7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1D8-AEBB-44CE-B11D-A7A41C8E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BD3-BE59-477C-AB14-393E1D18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13F-D47C-429D-8AF3-F03066ED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337-3087-4BE5-A773-90735996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0B34-EBEA-421D-8F4C-6B8328E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2BE-05BE-4FF2-8057-106484DE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FDB-884C-4865-8A28-168AE64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EFBC-6078-4B20-B187-7105DC5EE8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9A4D-22A6-43AE-86D8-1417FEC68D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travel.nationalgeographic.com/places/images/photos/photo_lg_kazakhstan.jpg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cache.virtualtourist.com/2189757-Medeu_Almaty_Kazakhstan-Almaty.jpg" TargetMode="External"/><Relationship Id="rId5" Type="http://schemas.openxmlformats.org/officeDocument/2006/relationships/image" Target="../media/image8.png"/><Relationship Id="rId6" Type="http://schemas.openxmlformats.org/officeDocument/2006/relationships/hyperlink" Target="https://www.cia.gov/library/publications/the-world-factbook/geos/kz.html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Flag of Kazakhstan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Kazakhst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an Trump and Nick Wetz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travel.nationalgeographic.com/places/images/photos/photo_lg_kazakhstan.jp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(Feb. 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cache.virtualtourist.com/2189757-Medeu_Almaty_Kazakhstan-Almaty.jp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(Feb. 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https://www.cia.gov/library/publications/the-world-factbook/geos/kz.htm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 ( Feb. 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ytravelinasia.com/wp-content/uploads/2008/03/kazakhstan.jpg  (Feb. 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kazakhstan.orexca.com/kazakhstan_culture.shtml    (Feb. 1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select-a-room.com/images/db/8/289_astana%20tower.jpg  (Feb. 1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in Central Asia (below Russ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2,717,300 total sq.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tural resour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etroleum, natural gas, coal, iron ore, manganese, chrome ore, nickel, cobalt, copper, molybdenum, lead, zinc, bauxite, gold, uran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800600" y="37720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and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ga and Altai Mountains and plains in western Sib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ses and deserts in Central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oastline (landlock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 / Vege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ental climate, cold winters and hot sum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ural Wildlif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onb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y Wol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ager (Asian donke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e St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ow Leop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inly Drought resistant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mw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mar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athergr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ublican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ial rule; little power outside of executive bra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fe Expectan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ales- 62.2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ales- 73.16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15,340,533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and Current Ev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December 1991: Gained independence from the Soviet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post-independence constitution adopted on the 28th January 199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constitution adopted by national referendum on the 30th August 199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Event URL: http://news.bbc.co.uk/2/hi/asia-pacific/7878824.s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dustr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il, coal, iron ore, manganese, lead, zinc, copper, titanium, bauxite, gold, silver, phosphates, sulfur, iron and steel; tractors and other agricultural machinery, electric motors, construction materi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jor Expor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il, natura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Religion: Is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ed guests are treated to a feast of freshly killed la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rns of mountain rams and goats are used to decorate beds and cas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azakh national dress varies by reg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 wear chapans; a kind of dressing gown with a belt, made of velvet and richly embroidered. They cover their heads with a soft skullcap, a tall felt cap or a fox-fur hat with earfl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omen's cost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sists of a white cotton or color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k 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 velvet waistcoat with embroidery and a cap or a silk scar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derly women wear a hood made of white cloth with a hole for the f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2279520" cy="3371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3071880" cy="2046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80880" y="2895480"/>
            <a:ext cx="2303640" cy="35956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ana, the capital of Kazakhs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09:21Z</dcterms:created>
  <dc:creator>ianstrump</dc:creator>
  <dc:description/>
  <dc:language>en-US</dc:language>
  <cp:lastModifiedBy>ianstrump</cp:lastModifiedBy>
  <dcterms:modified xsi:type="dcterms:W3CDTF">2009-02-19T16:03:21Z</dcterms:modified>
  <cp:revision>17</cp:revision>
  <dc:subject/>
  <dc:title>Kazakhstan</dc:title>
</cp:coreProperties>
</file>